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1877-ADA8-4D5A-994A-C4353F9E8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D447-97AD-4C6A-9907-740571BE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B0A8-1259-4393-949C-3E41B35E3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CFDA-94A0-4DE1-B5B6-0A3B57E3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454-AC6F-45EE-BE9F-597C8AAF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BE0-E8EE-4CE8-8D29-87106BFA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32B-3E71-4575-83AF-2764F923B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47F19F9-7E6A-463D-8F4D-2D52F71BD3D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7CB6483-79F4-4E14-B70C-058EFB87B3A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8466AAD-0AA4-4B2C-9AF1-FB6A1BCA8A1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90960"/>
            <a:ext cx="8766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lanning Oral Presenta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84080" y="160020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Talk or speech given to inform, persuade, and/or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ning a presentation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ence for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t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ids, such as slides &amp; posters you wil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115141B-8787-4D04-B24C-A61F13D0D0D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Documents and Settings\Jean Bissell-Privett\Local Settings\Temporary Internet Files\Content.IE5\PGZZOALM\MCj03550110000[1].wmf"/>
          <p:cNvPicPr/>
          <p:nvPr/>
        </p:nvPicPr>
        <p:blipFill>
          <a:blip r:embed="rId1"/>
          <a:stretch/>
        </p:blipFill>
        <p:spPr>
          <a:xfrm>
            <a:off x="6988320" y="3355920"/>
            <a:ext cx="1785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termining the Purpos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3200" y="16002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planning &amp; preparing,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als of the 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?  Entert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audience ideas or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udience to take some 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BF0B778-FC7A-4CE0-ADB0-2455655CAC9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Documents and Settings\Jean Bissell-Privett\Local Settings\Temporary Internet Files\Content.IE5\O40EWU60\MCj02380620000[1].wmf"/>
          <p:cNvPicPr/>
          <p:nvPr/>
        </p:nvPicPr>
        <p:blipFill>
          <a:blip r:embed="rId1"/>
          <a:stretch/>
        </p:blipFill>
        <p:spPr>
          <a:xfrm flipH="1">
            <a:off x="6764040" y="1979640"/>
            <a:ext cx="2033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earning About the Audien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75760" y="1600200"/>
            <a:ext cx="8055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 Profi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cription of your audience – who will be listening to your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audience familiar with the top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old is the audie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open to new ide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likely to resist the action you want them to ta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listening by choice (or required to atte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8162402-DFEB-4D49-8723-0B44AD62E89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C:\Documents and Settings\Jean Bissell-Privett\Local Settings\Temporary Internet Files\Content.IE5\B84JFXV6\MCj00903510000[1].wmf"/>
          <p:cNvPicPr/>
          <p:nvPr/>
        </p:nvPicPr>
        <p:blipFill>
          <a:blip r:embed="rId1"/>
          <a:stretch/>
        </p:blipFill>
        <p:spPr>
          <a:xfrm>
            <a:off x="6638760" y="2508120"/>
            <a:ext cx="21006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the Conte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mai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wo or more supporting points for each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ly the most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order in which information i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1DBEFCC-6D7F-4F03-BEE4-BF84EF9542E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Jean Bissell-Privett\Local Settings\Temporary Internet Files\Content.IE5\LILAUYKO\MCj00787090000[1].wmf"/>
          <p:cNvPicPr/>
          <p:nvPr/>
        </p:nvPicPr>
        <p:blipFill>
          <a:blip r:embed="rId1"/>
          <a:stretch/>
        </p:blipFill>
        <p:spPr>
          <a:xfrm flipH="1">
            <a:off x="6865560" y="1650960"/>
            <a:ext cx="19573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the Conte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 Purpose, 2.  Audience, No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 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utl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2DCF08F-B325-473B-ACEB-89B91ECD1D9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Documents and Settings\Jean Bissell-Privett\Local Settings\Temporary Internet Files\Content.IE5\MY95YL2K\MCj03977840000[1].wmf"/>
          <p:cNvPicPr/>
          <p:nvPr/>
        </p:nvPicPr>
        <p:blipFill>
          <a:blip r:embed="rId1"/>
          <a:stretch/>
        </p:blipFill>
        <p:spPr>
          <a:xfrm>
            <a:off x="7099200" y="1701720"/>
            <a:ext cx="17100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3T04:35:50Z</dcterms:modified>
  <cp:revision>18</cp:revision>
  <dc:subject/>
  <dc:title>Slide 1</dc:title>
</cp:coreProperties>
</file>